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92D9-DF54-4054-9C99-4EBE79CC5A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6A97-D287-4B0D-9863-12F19318B7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613B-5ACD-46F1-91A3-0FDFB7431F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D605-E208-4A0A-8568-4D74D4BA50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BB1E-9710-4693-9BDB-3674C3DD38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3519-35E2-4867-B57A-16879C47E6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3BCB-C683-4EB7-98E5-088C957D3D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A94A-3882-4843-AA5C-9654840D3D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07BF-FA98-438E-B5AD-15A775E281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8EC-D16E-4314-8BB2-6AA3D006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293-E73A-4D08-A4FD-181164AC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868-26F9-4F3F-8991-D8FF03C0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D76-2179-4901-9B15-1274B265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A4C3-F627-46E7-A205-39D0728A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A6BE-758D-40A7-8A81-74488948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3CB5-2EFB-49C6-937B-1E5D84CD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D27E-F8ED-400A-87E0-3CF9479A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FDA5-0DB7-40F7-A8B0-CEE88083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00AC-72D5-4208-9A80-D10863BE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5C8E-9830-4BFE-A6CF-6905CE3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658-9B0E-4C45-88DB-0B8371AE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748B-A9F9-4FA0-9FDA-DC02F2C6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A80C-B021-4942-9D43-1182048B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EA60-4339-4C9E-B8DA-9F6B00A9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6FB9-D573-42D0-B9AF-A9308E58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7A55-1970-46F6-9001-4A3632A6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AD3-14B2-4286-877D-151E0166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78F-A829-41C7-9359-AF873169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9C6-070C-4667-A29F-5A65ED3F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EF1-0BFF-4833-A8E5-9081C9F2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BD1-92FC-4322-8873-76AC66B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3D4-1948-4185-9ADD-A1FE8AD4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B04-1822-403D-828E-048B968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491C-4467-4B0B-B9DE-4A6A8A72856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AA38-408D-4653-BD1B-302758120E3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38836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6666"/>
                </a:solidFill>
                <a:latin typeface="Lucida Console"/>
              </a:rPr>
              <a:t>Instytucje użyteczności publicznej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340000" y="5373720"/>
          <a:ext cx="409572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5373720"/>
                    <a:ext cx="4095720" cy="981000"/>
                  </a:xfrm>
                  <a:prstGeom prst="rect">
                    <a:avLst/>
                  </a:prstGeom>
                  <a:ln w="3492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4284720" y="2924280"/>
          <a:ext cx="4390920" cy="13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924280"/>
                    <a:ext cx="43909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7"/>
          <p:cNvGraphicFramePr/>
          <p:nvPr/>
        </p:nvGraphicFramePr>
        <p:xfrm>
          <a:off x="1403280" y="2708280"/>
          <a:ext cx="1997280" cy="20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2708280"/>
                    <a:ext cx="199728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8"/>
          <p:cNvSpPr/>
          <p:nvPr/>
        </p:nvSpPr>
        <p:spPr>
          <a:xfrm>
            <a:off x="468360" y="4653000"/>
            <a:ext cx="3673440" cy="368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99ff"/>
                </a:solidFill>
                <a:latin typeface="Verdana"/>
              </a:rPr>
              <a:t>PRZYCHODNIA LEKAR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66"/>
                </a:solidFill>
                <a:latin typeface="Lucida Console"/>
              </a:rPr>
              <a:t>Jak założyć konto osobiste </a:t>
            </a:r>
            <a:br>
              <a:rPr sz="3200"/>
            </a:br>
            <a:r>
              <a:rPr b="0" lang="pl-PL" sz="3200" spc="-1" strike="noStrike">
                <a:solidFill>
                  <a:srgbClr val="006666"/>
                </a:solidFill>
                <a:latin typeface="Lucida Console"/>
              </a:rPr>
              <a:t>w banku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ANd9GcQ-rVAVA-pTC516iMWdz7pAObVKJW40FTD37pT6KYrPcigmmMFQ"/>
          <p:cNvPicPr/>
          <p:nvPr/>
        </p:nvPicPr>
        <p:blipFill>
          <a:blip r:embed="rId1"/>
          <a:stretch/>
        </p:blipFill>
        <p:spPr>
          <a:xfrm>
            <a:off x="1042920" y="1773360"/>
            <a:ext cx="1158840" cy="1439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2268360" y="1628640"/>
            <a:ext cx="590400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173160"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Idziesz do banku z dowodem tożsamośc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Informujesz pracownika banku o chęci założenia kont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pełniasz wniosek (sam lub przy pomocy opiekuna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 wypełniania wniosku będziesz potrzebować następujących danych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- seria i numer dokumentu tożsamośc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- numer PES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- adres zameldowan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- adres korespondencyjn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5. Pracownik sprawdza da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6. Otrzymujesz dokumenty potwierdzające założenie konta i jego num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5680" indent="-173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7. Pracownik informuje Cię o możliwości wyrobienia karty bankomatowej oraz ustala z tobą termin jej odbioru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640" y="571680"/>
            <a:ext cx="70963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Inne instytucje użyteczności publicznej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99ff"/>
                </a:solidFill>
                <a:latin typeface="Verdana"/>
              </a:rPr>
              <a:t>Urząd Pracy</a:t>
            </a: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 – pomoc w znalezieniu pracy, wypłata zasiłku dla bezrobotnyc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99ff"/>
                </a:solidFill>
                <a:latin typeface="Verdana"/>
              </a:rPr>
              <a:t>ZUS</a:t>
            </a: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 – pomoc w otrzymaniu renty, zasiłku choroboweg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99ff"/>
                </a:solidFill>
                <a:latin typeface="Verdana"/>
              </a:rPr>
              <a:t>Policja</a:t>
            </a: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 – pomoc w przypadku kradzieży, pobicia, wypadku drogoweg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66"/>
                </a:solidFill>
                <a:latin typeface="Lucida Console"/>
              </a:rPr>
              <a:t>Znaczenie instytucji użyteczności publicznej dla osoby pracującej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99ff"/>
                </a:solidFill>
                <a:latin typeface="Verdana"/>
              </a:rPr>
              <a:t>Przychodnia zdrowia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– świadectwo zdrowia, badania okresowe, zwolnienie lekarsk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99ff"/>
                </a:solidFill>
                <a:latin typeface="Verdana"/>
              </a:rPr>
              <a:t>Bank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– przelew wynagrodzenia na konto bankowe, lokata oszczędnościow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99ff"/>
                </a:solidFill>
                <a:latin typeface="Verdana"/>
              </a:rPr>
              <a:t>ZUS</a:t>
            </a: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 – wypłata zasiłku chorobowego lub świadczeń rehabilitacyjny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Lucida Console"/>
              </a:rPr>
              <a:t>Instytucje użyteczności publicznej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ff"/>
                </a:solidFill>
                <a:latin typeface="Verdana"/>
              </a:rPr>
              <a:t>Instytucje użyteczności publicznej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 to miejsca, w których świadczone są różne usługi przez specjalistów w danej dziedzinie np.. lekarzy, bankowców, pracowników socjalnych, policjantów, doradców zawodowyc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Do instytucji użyteczności publicznej może zgłosić się każdy, kto </a:t>
            </a:r>
            <a:r>
              <a:rPr b="1" lang="pl-PL" sz="1800" spc="-1" strike="noStrike">
                <a:solidFill>
                  <a:srgbClr val="0099ff"/>
                </a:solidFill>
                <a:latin typeface="Verdana"/>
              </a:rPr>
              <a:t>potrzebuje pomocy ze strony specjalisty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Aby skorzystać z pomocy instytucji użyteczności publicznej należy mieć przy sobie dokument tożsamości, np.: </a:t>
            </a:r>
            <a:r>
              <a:rPr b="1" lang="pl-PL" sz="1800" spc="-1" strike="noStrike">
                <a:solidFill>
                  <a:srgbClr val="0099ff"/>
                </a:solidFill>
                <a:latin typeface="Verdana"/>
              </a:rPr>
              <a:t>dowód osobisty, paszport. a w przypadku osób niepełnoletnich – legitymację szkoln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608184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Lucida Console"/>
              </a:rPr>
              <a:t>Przychodnia lekars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Object 8"/>
          <p:cNvGraphicFramePr/>
          <p:nvPr/>
        </p:nvGraphicFramePr>
        <p:xfrm>
          <a:off x="7596360" y="189000"/>
          <a:ext cx="12873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89000"/>
                    <a:ext cx="12873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10"/>
          <p:cNvSpPr/>
          <p:nvPr/>
        </p:nvSpPr>
        <p:spPr>
          <a:xfrm>
            <a:off x="1116000" y="1989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187280" y="1989000"/>
            <a:ext cx="741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Zadani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udzielanie porad lekarski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badanie przydatności do pr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badania okresow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6666"/>
                </a:solidFill>
                <a:latin typeface="Arial"/>
              </a:rPr>
              <a:t>Przykładowe dokumen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493056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500" spc="-1" strike="noStrike">
                <a:solidFill>
                  <a:srgbClr val="0099ff"/>
                </a:solidFill>
                <a:latin typeface="Verdana"/>
              </a:rPr>
              <a:t>Zwolnienie lekarsk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6119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66"/>
                </a:solidFill>
                <a:latin typeface="Lucida Console"/>
              </a:rPr>
              <a:t>Co zrobić w razie choroby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4" descr="ANd9GcQ-rVAVA-pTC516iMWdz7pAObVKJW40FTD37pT6KYrPcigmmMFQ"/>
          <p:cNvPicPr/>
          <p:nvPr/>
        </p:nvPicPr>
        <p:blipFill>
          <a:blip r:embed="rId1"/>
          <a:stretch/>
        </p:blipFill>
        <p:spPr>
          <a:xfrm>
            <a:off x="900000" y="1557360"/>
            <a:ext cx="1208160" cy="1501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411280" y="1773360"/>
            <a:ext cx="61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Kiedy jesteś chory idziesz po poradę do lekarza rodzinneg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Lekarz wypisze Ci receptę na leki oraz wystawi zwolnienie lekarskie.  Jeżeli jest taka potrzeba wypisze on skierowanie do innego specjalisty, na badania laboratoryjne lub do szpital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o niektórych specjalistów możesz iść 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bez skierowania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 od swojego lekarza rodzinneg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 psychiatr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 dentyst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 ginekologa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 dermatologa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 wenerologa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 onkologa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134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Lucida Console"/>
              </a:rPr>
              <a:t>Ośrodek Pomocy Społecznej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Object 7"/>
          <p:cNvGraphicFramePr/>
          <p:nvPr/>
        </p:nvGraphicFramePr>
        <p:xfrm>
          <a:off x="7596360" y="115920"/>
          <a:ext cx="133020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15920"/>
                    <a:ext cx="13302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9"/>
          <p:cNvSpPr/>
          <p:nvPr/>
        </p:nvSpPr>
        <p:spPr>
          <a:xfrm>
            <a:off x="1619280" y="2276640"/>
            <a:ext cx="626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187280" y="1844640"/>
            <a:ext cx="698508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Zadani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8200" indent="-26820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przyznawanie i wypłacanie zasiłków, np.: </a:t>
            </a:r>
            <a:r>
              <a:rPr b="0" lang="pl-PL" sz="2800" spc="-1" strike="noStrike">
                <a:solidFill>
                  <a:srgbClr val="0066ff"/>
                </a:solidFill>
                <a:latin typeface="Verdana"/>
              </a:rPr>
              <a:t>zapomoga na leki, zakup węgla, dopłata do czynsz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8200" indent="-26820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udzielanie schronien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8200" indent="-26820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zapewnianie posiłku i ubrania osobom tego pozbawiony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6666"/>
                </a:solidFill>
                <a:latin typeface="Arial"/>
              </a:rPr>
              <a:t>Przykładowe dokumen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28640"/>
            <a:ext cx="61545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Jan Kowalsk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ul. Lubelska 2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20-999 Lubl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Wnios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o przyznanie świadczenia z pomocy społecznej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Verdana"/>
              </a:rPr>
              <a:t>Proszę o przyznanie </a:t>
            </a:r>
            <a:r>
              <a:rPr b="1" lang="pl-PL" sz="1200" spc="-1" strike="noStrike">
                <a:solidFill>
                  <a:srgbClr val="0066ff"/>
                </a:solidFill>
                <a:latin typeface="Verdana"/>
              </a:rPr>
              <a:t>zasiłku celowego na zakup węgl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Verdana"/>
              </a:rPr>
              <a:t>Uzasadnieni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66ff"/>
                </a:solidFill>
                <a:latin typeface="Verdana"/>
              </a:rPr>
              <a:t>Jestem osobą bezrobotną. Utrzymuję się z renty socjalnej, która wystarcza jedynie na opłacenie stancji i jedzeni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Zobowiązuję si do niezwłocznego (nie później niż w 14 dni od dnia złożenia niniejszego podania) dostarczenia wszystkich wymaganych przez pracownika socjalnego MOPS dokumentów niezbędnych do rozpatrzenia mojej sprawy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Data wpływu i numer wniosku 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podpis klient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006666"/>
                </a:solidFill>
                <a:latin typeface="Lucida Console"/>
              </a:rPr>
              <a:t>Bank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7308720" y="115920"/>
          <a:ext cx="159552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115920"/>
                    <a:ext cx="159552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1258920" y="2133720"/>
            <a:ext cx="7416720" cy="33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44136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prowadzenie konta osobisteg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3880" indent="-44136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przyjmowanie wpłat pieniężny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3880" indent="-44136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prowadzenie lokat      oszczędnościowy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3880" indent="-44136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6666"/>
                </a:solidFill>
                <a:latin typeface="Arial"/>
              </a:rPr>
              <a:t>Przykładowe dokumen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ff"/>
                </a:solidFill>
                <a:latin typeface="Verdana"/>
              </a:rPr>
              <a:t>Karta bankomatow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ANd9GcTt0jrZHlMlp-gOg5n7iuW8mRKIQ4I6a5tVItAe9Fhh9HYdtg3YDQ"/>
          <p:cNvPicPr/>
          <p:nvPr/>
        </p:nvPicPr>
        <p:blipFill>
          <a:blip r:embed="rId1"/>
          <a:stretch/>
        </p:blipFill>
        <p:spPr>
          <a:xfrm>
            <a:off x="1835280" y="2708280"/>
            <a:ext cx="5184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2:42:14Z</dcterms:created>
  <dc:creator>ADR</dc:creator>
  <dc:description/>
  <dc:language>en-US</dc:language>
  <cp:lastModifiedBy>Michał</cp:lastModifiedBy>
  <dcterms:modified xsi:type="dcterms:W3CDTF">2011-03-30T08:06:18Z</dcterms:modified>
  <cp:revision>17</cp:revision>
  <dc:subject/>
  <dc:title>Instytucje użytku publicznego</dc:title>
</cp:coreProperties>
</file>