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54B-B364-4080-B203-2BDCB65F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613-0168-4FDC-9855-344B2E4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0DF-EB9C-4285-94EB-F9D68E6D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034-F799-481A-90D8-AD8D82F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70B-E332-4FE2-B915-98530655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3B-12DF-4B9E-9964-0AED9721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4D0-311D-4E7D-B6FC-F8682E97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54B-729D-4118-A744-F493D8A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662-DC56-4F55-98B9-D9A6E90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8BD-EF8E-4740-B54B-14ACF6C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CB6-94A8-41C0-BE53-F004230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E43-2611-4C27-A79E-4FADABF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0456-851C-41E8-B35E-7E5F63088DC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ymbol zastępczy zawartości 3" descr="Legitymacja.jpg"/>
          <p:cNvPicPr/>
          <p:nvPr/>
        </p:nvPicPr>
        <p:blipFill>
          <a:blip r:embed="rId1"/>
          <a:stretch/>
        </p:blipFill>
        <p:spPr>
          <a:xfrm>
            <a:off x="2000160" y="-22320"/>
            <a:ext cx="48578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ymbol zastępczy zawartości 3" descr="Dowód osobisty.jpg"/>
          <p:cNvPicPr/>
          <p:nvPr/>
        </p:nvPicPr>
        <p:blipFill>
          <a:blip r:embed="rId1"/>
          <a:stretch/>
        </p:blipFill>
        <p:spPr>
          <a:xfrm>
            <a:off x="0" y="785880"/>
            <a:ext cx="91425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ymbol zastępczy zawartości 3" descr="Dowód osobisty 2.jpg"/>
          <p:cNvPicPr/>
          <p:nvPr/>
        </p:nvPicPr>
        <p:blipFill>
          <a:blip r:embed="rId1"/>
          <a:stretch/>
        </p:blipFill>
        <p:spPr>
          <a:xfrm>
            <a:off x="0" y="1000080"/>
            <a:ext cx="90694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9:13:45Z</dcterms:created>
  <dc:creator>Witek</dc:creator>
  <dc:description/>
  <dc:language>en-US</dc:language>
  <cp:lastModifiedBy>Michał</cp:lastModifiedBy>
  <dcterms:modified xsi:type="dcterms:W3CDTF">2011-02-23T09:47:41Z</dcterms:modified>
  <cp:revision>6</cp:revision>
  <dc:subject/>
  <dc:title>Slajd 1</dc:title>
</cp:coreProperties>
</file>