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E0C-296A-4E26-B1D1-B5DB0487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805-BF04-492D-B24B-F719035D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571-B958-45B1-B617-B6EC6235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B39-608E-45F9-A412-EAD4E94B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908-7C08-4256-9BC2-E5AC842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BCE-B321-4588-BBDD-AAF11BD3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B1F-00A7-42C8-B426-D54F3F4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195-CFB7-4CA3-AA5E-5C323EE1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B90-9F7B-4BE6-8C3E-6627BB5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9FF-CB67-46FD-B16D-2567153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7C6-0AB8-4B54-8BFE-DD21B138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0F2-94C8-46BD-B9EB-F1000D4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441-0218-48F2-889C-19E8BCD3A4B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79280" y="571680"/>
            <a:ext cx="8578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ymbol zastępczy zawartości 3" descr="3.jpg"/>
          <p:cNvPicPr/>
          <p:nvPr/>
        </p:nvPicPr>
        <p:blipFill>
          <a:blip r:embed="rId1"/>
          <a:stretch/>
        </p:blipFill>
        <p:spPr>
          <a:xfrm>
            <a:off x="0" y="428760"/>
            <a:ext cx="89964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05:54Z</dcterms:created>
  <dc:creator>ICom</dc:creator>
  <dc:description/>
  <dc:language>en-US</dc:language>
  <cp:lastModifiedBy>Michał</cp:lastModifiedBy>
  <dcterms:modified xsi:type="dcterms:W3CDTF">2011-03-29T13:46:11Z</dcterms:modified>
  <cp:revision>7</cp:revision>
  <dc:subject/>
  <dc:title>Slajd 1</dc:title>
</cp:coreProperties>
</file>