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FAD-61F4-4393-97DC-9BDAE4C0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675-A54F-4E19-B370-965AC551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485-A485-4BD4-B792-08D9E658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CD7-1B36-49DB-A0A9-73E43C69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54F-FB83-4918-9109-FD5C4F3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8C2-2657-4900-969A-E7F149D0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E46-EB1F-4A4A-8076-71D0FD6A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61F-0697-4B85-BD72-95E12678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86D-8D70-4BBF-8532-192327CF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572-975F-4047-9E1A-0C8DA86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4AD-3929-439A-A989-52EF21C6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077-745C-4EAD-9EBD-B6641CD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4690-031E-4B5A-986E-DA755565325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424720" cy="540072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kcja języka ukraiński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Ур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к укра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ї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нської м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k ukra</a:t>
            </a: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nśkoji m</a:t>
            </a: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380360" y="378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lory /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Кольор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ер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er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yj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ний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ny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ий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ły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ій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ий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y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тий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ty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ж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й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ż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лак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н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łak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ny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1844640"/>
            <a:ext cx="122400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3645000"/>
            <a:ext cx="1224000" cy="215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2997360"/>
            <a:ext cx="1224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2349360"/>
            <a:ext cx="122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149720"/>
            <a:ext cx="1224000" cy="28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4797360"/>
            <a:ext cx="122400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373720"/>
            <a:ext cx="122400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5950080"/>
            <a:ext cx="122400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333360"/>
            <a:ext cx="1727280" cy="172872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74072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557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żegn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 поб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ен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b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ennia / do wid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в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w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 / cz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 з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річ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z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riczi / do następnego spotk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149720"/>
            <a:ext cx="2089080" cy="216072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31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it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рий д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ь!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ryj deń / dzień dob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т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ю!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it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u / wit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!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y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 / cz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93080" y="476280"/>
            <a:ext cx="1726920" cy="1728720"/>
          </a:xfrm>
          <a:prstGeom prst="downArrow">
            <a:avLst>
              <a:gd name="adj1" fmla="val 50000"/>
              <a:gd name="adj2" fmla="val 2502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812000" y="155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98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 się nazywas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Як теб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зв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и?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  Мен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зв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и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 teb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?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Як тво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i="1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ім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Мо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ім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 two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im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im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Як тво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пр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вище?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Мо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пр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вище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 two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wyszcze?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wyszcz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260280"/>
            <a:ext cx="1655640" cy="1800360"/>
          </a:xfrm>
          <a:prstGeom prst="downArrow">
            <a:avLst>
              <a:gd name="adj1" fmla="val 50000"/>
              <a:gd name="adj2" fmla="val 2718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8508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5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ąd pochodzis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ки ти р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м?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Я р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м із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ky ty r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m?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 r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m i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ки ти?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з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ky ty?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 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ьщі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szc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кра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Ukra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лінського воє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linśkoho wojew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stw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6000" y="260280"/>
            <a:ext cx="1582560" cy="1800360"/>
          </a:xfrm>
          <a:prstGeom prst="downArrow">
            <a:avLst>
              <a:gd name="adj1" fmla="val 50000"/>
              <a:gd name="adj2" fmla="val 284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508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47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zie żyjesz / mieszkas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е ти жи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ш?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De ty żyw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z?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жи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 żyw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 м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ті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w m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 сел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w sel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е ти м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шкаєш?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e ty m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zkajesz?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м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шкаю ..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 m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zkaju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кварт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і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u kwart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 особняк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w osobniak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 гурт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житк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w hurt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żyt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16720" y="260280"/>
            <a:ext cx="1727280" cy="172872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61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zym się zajmujes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им ти займ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єш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им ти з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аз займ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єш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m ty z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az zajm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z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прац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 prac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j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навч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юсь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a nawcz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u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вч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я в шк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і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a wcz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a w szk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на лікарн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ому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Ja na likar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o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на п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сії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a na p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s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404640"/>
            <a:ext cx="1726920" cy="172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95672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95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o lubisz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robić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Я любл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Ja lubl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чит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и книжк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t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 knyżk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/ czytać książ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ив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ися ф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льм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dyw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sia f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my / oglądać fil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йм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ися сп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ртом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zajm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sia sp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om / uprawiać 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ход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и на прог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лянк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chod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 na proh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ank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hodzić na spac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устріч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ися з др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ям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ustricz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sia z dr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iamy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otykać się z przyjaciół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404640"/>
            <a:ext cx="1727280" cy="1729080"/>
          </a:xfrm>
          <a:prstGeom prst="downArrow">
            <a:avLst>
              <a:gd name="adj1" fmla="val 50000"/>
              <a:gd name="adj2" fmla="val 2502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74072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949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341360"/>
            <a:ext cx="6985080" cy="511200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ni tygodnia /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Дні т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ж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нед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ок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ned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łok / poniedział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вт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к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iwt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k / wt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еред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red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 ś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ет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et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 / czwar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ниця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nycia / piąt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уб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a / sob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д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я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ed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ia / niedz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836640"/>
            <a:ext cx="1726920" cy="1728720"/>
          </a:xfrm>
          <a:prstGeom prst="downArrow">
            <a:avLst>
              <a:gd name="adj1" fmla="val 50000"/>
              <a:gd name="adj2" fmla="val 2502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56720" y="1916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69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iesiące /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ісяц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</a:rPr>
              <a:t>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ен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з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eń/stycze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j/lut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ezeń/marz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ен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ен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eń/kwiecie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ń/maj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weń/czerwi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н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пен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eń/lipie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peń/sierpie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eseń/wrzes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тен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истоп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teń/październi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ystop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/listopa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eń/grudz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189000"/>
            <a:ext cx="1727280" cy="172872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88508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659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3:06:29Z</dcterms:created>
  <dc:creator>x</dc:creator>
  <dc:description/>
  <dc:language>en-US</dc:language>
  <cp:lastModifiedBy>Любко</cp:lastModifiedBy>
  <dcterms:modified xsi:type="dcterms:W3CDTF">2013-05-08T12:07:17Z</dcterms:modified>
  <cp:revision>12</cp:revision>
  <dc:subject/>
  <dc:title>Lekcja języka ukraińskiego</dc:title>
</cp:coreProperties>
</file>